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A9C-86F9-4F55-A704-03ACC484A3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1079-336B-4C15-A0C4-0A1FE35B9FDE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D9B7-AFA8-4EA4-9895-9C3196E3728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3DF-56C1-464A-A915-73AB16651FC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2D37-A99F-420C-8E4D-EA2008BDE92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24CE-EE8C-4101-84FA-8B5E26B65C1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D10-F210-4909-8548-A2E790FA49D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728-34BB-4D3C-85D5-8B268EE7A20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366-C421-484B-9F53-243660E90E6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7BC3-7E04-4106-8D00-FEEA8113F2D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3ED-E383-48EA-A090-EC2C1554956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0FB-C5BC-4759-8B9C-8074A7975A9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82C-2EBA-44F0-88BF-B572CDCD626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EE6-223A-4217-8E97-6FE15805475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8146-5BDC-49B4-B162-FF304861D6F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6E75-621C-4942-94BC-3B3E9C71774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7D76-8964-472C-8E4A-F06B59B3967E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98C3-0719-4CB0-B320-69D8A2CA463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9EB2-38B7-48EA-A286-673D25794C5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682-4F94-4F89-B9AC-2CE6F7F2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D09-35FF-4E90-8150-AA7A9284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A6A-7515-49E1-9A66-AB627AA1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94C-0206-4E39-A191-CFB8B5C3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33E-5E64-4CF3-9B5A-3605ED58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C01-8C38-46A4-98D6-CBD639DE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62E-EF89-4DD9-A231-ADC5CC74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F85-4C17-4BCF-BB30-0ABBC63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4CC-F151-469B-8710-24016CB1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029-85A9-4CB6-BE28-9F598AA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A2D-8F62-46CC-8819-CE8AA92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1B8-9BCA-44D1-8A30-F5DFA25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65E-258E-44AD-9E7E-694CA78E4EB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2852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e Gerenciamento Integrado de Resíduos Só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70000" y="457200"/>
            <a:ext cx="2438280" cy="703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Gerenciament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328920" y="615960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447920" y="3124080"/>
            <a:ext cx="1440" cy="3353040"/>
          </a:xfrm>
          <a:prstGeom prst="line">
            <a:avLst/>
          </a:prstGeom>
          <a:ln w="7632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447920" y="6477120"/>
            <a:ext cx="1600200" cy="1440"/>
          </a:xfrm>
          <a:prstGeom prst="line">
            <a:avLst/>
          </a:prstGeom>
          <a:ln w="76320">
            <a:solidFill>
              <a:srgbClr val="ff3399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19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0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0" y="350532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3328920" y="615960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 – Mode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1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2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0" y="350028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4"/>
          <p:cNvGraphicFramePr/>
          <p:nvPr/>
        </p:nvGraphicFramePr>
        <p:xfrm>
          <a:off x="1440" y="0"/>
          <a:ext cx="9141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5"/>
          <p:cNvSpPr/>
          <p:nvPr/>
        </p:nvSpPr>
        <p:spPr>
          <a:xfrm>
            <a:off x="900000" y="3141720"/>
            <a:ext cx="720720" cy="12970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812000" y="321300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5229360"/>
            <a:ext cx="1366920" cy="43308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 rot="2367600">
            <a:off x="2742840" y="1252080"/>
            <a:ext cx="503280" cy="1150920"/>
          </a:xfrm>
          <a:custGeom>
            <a:avLst/>
            <a:gdLst>
              <a:gd name="textAreaLeft" fmla="*/ 67320 w 503280"/>
              <a:gd name="textAreaRight" fmla="*/ 435960 w 503280"/>
              <a:gd name="textAreaTop" fmla="*/ 191160 h 1150920"/>
              <a:gd name="textAreaBottom" fmla="*/ 790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8" stAng="-5400000" swAng="-5400000"/>
                <a:lnTo>
                  <a:pt x="0" y="11248"/>
                </a:lnTo>
                <a:arcTo wR="21600" hR="7178" stAng="10800000" swAng="-2593581"/>
                <a:lnTo>
                  <a:pt x="14400" y="21189"/>
                </a:lnTo>
                <a:lnTo>
                  <a:pt x="21600" y="16391"/>
                </a:lnTo>
                <a:lnTo>
                  <a:pt x="14400" y="10771"/>
                </a:lnTo>
                <a:lnTo>
                  <a:pt x="14400" y="13945"/>
                </a:lnTo>
                <a:arcTo wR="21600" hR="7178" stAng="8206419" swAng="2256924"/>
                <a:lnTo>
                  <a:pt x="886" y="9213"/>
                </a:lnTo>
                <a:arcTo wR="21600" hR="7178" stAng="-10463343" swAng="5063343"/>
                <a:close/>
              </a:path>
              <a:path fill="darkenLess" w="21600" h="21600">
                <a:moveTo>
                  <a:pt x="21600" y="0"/>
                </a:moveTo>
                <a:arcTo wR="21600" hR="7178" stAng="-5400000" swAng="-5400000"/>
                <a:lnTo>
                  <a:pt x="0" y="7178"/>
                </a:lnTo>
                <a:arcTo wR="21600" hR="7178" stAng="10800000" swAng="-336657"/>
                <a:lnTo>
                  <a:pt x="886" y="9213"/>
                </a:lnTo>
                <a:arcTo wR="21600" hR="7178" stAng="-10463343" swAng="5063343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 rot="12886800">
            <a:off x="6059160" y="1628640"/>
            <a:ext cx="1320840" cy="650880"/>
          </a:xfrm>
          <a:custGeom>
            <a:avLst/>
            <a:gdLst>
              <a:gd name="textAreaLeft" fmla="*/ 231120 w 1320840"/>
              <a:gd name="textAreaRight" fmla="*/ 957600 w 132084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38760" y="33336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9536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91440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 – PELO MUNICÍP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mente pelo municí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pública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de economia m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– EXECUÇÃO INDIR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ter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4120" y="333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oncessão, a concessionária planeja, organiza, executa e coordena o serviço, </a:t>
            </a: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podendo inclusive terceirizar operações e arrecadar os pagamentos referentes à sua remuneração, diretamente junto ao usuário/beneficiário dos serviço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 concessões em geral são objeto de contratos a longo termo que possam garantir o retorno dos investimentos aplicados no sistema. Mas a grande dificuldade está nas poucas garantias que as concessionárias recebem quanto à arrecadação e o pagamento dos seus serviços e na fragilidade dos municípios em preparar os editais de concessão, conhecer custos e fiscalizar serviç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347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rcer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erceirização consolida o conceito próprio da administração pública, qual seja, de exercer as funções prioritárias de planejamento, coordenação e fiscalização, podendo deixar às empresas privadas a operação propriamente dita. É importante lembrar que a terceirização de serviços pode ser manifestada em diversas escalas, desde a contratação de empresas bem estruturadas com especialidade em determinado segmento operacional ­ tais como as operações nos aterros sanitários, até a contratação de microempresas ou trabalhadores autônomos, que possam promover, por exemplo, coleta com transporte de tração animal ou a operação manual de aterros de pequeno 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68360" y="620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sórcio caracteriza-se como um acordo entre municípios com o objetivo de alcançar metas comuns previamente estabelecidas. Para tanto, recursos ­ sejam humanos ou financeiros ­ dos municípios integrantes são reunidos sob a forma de um consórcio a fim de viabilizar a implantação de ação, programa ou projeto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35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isquer das alternativas ou de suas possíveis combinações, devem ser escolhidas com base no binômi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aixo custo-técnica ambiental corre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sempre visando um sistema auto-sustentá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95360" y="47412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162864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– Formas de Contra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Glob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Unit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5092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CONTRA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5280" y="1773360"/>
            <a:ext cx="8458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LI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NOR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TÉC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ultoria geralmente 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3 R´s - REDUZIR, REUTILIZAR, RECICL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82760" y="1447920"/>
          <a:ext cx="8180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47920"/>
                    <a:ext cx="8180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Hierarquia de ações da Gestão  de Resíduos Sóli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E PÓS-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7816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pensar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720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duz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2388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edu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003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util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93432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e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32448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olu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0292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cic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39640" y="198900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352680" y="5486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T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71600" y="5181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Dis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62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MINIM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539640" y="191628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8840" y="1039680"/>
            <a:ext cx="8675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TAX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 tributo resultante da oferta de um serviço pelo poder público, de pagamento obrigatório, que o contribuinte o utilize ou não, só pode ser criada mediante l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TARIF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 cobrado por um serviço prestado de forma facultativa. A tarifa somente é devida quando da efetiva utilização do serviço pelo usuário, serviço este que deverá ser bem definido e mensurado. O pagamento é obrigatório somente para usuários ef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4480"/>
            <a:ext cx="8569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MOS REFLETIR UM POU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faz com os resíduos que produz diariam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com o lixo de cada di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o poder público faz para gerenciar estes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quando tomamos atitudes incorretas no descarte de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 a sua participação no modelo de gestão implantado em seu municí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or que há pessoas morando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ara onde vão os recursos gerados pela coleta seletiv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pode fazer para muar este cenári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95280" y="332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COBRAR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1413000"/>
            <a:ext cx="85852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Fortaleza (tarif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tarifa foi baseada no volume de lixo de zonas da cidade (25 zonas), as faixas de consumo de energia e a área do i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São Paulo (tax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seou-se em uma declaração voluntária da quantidade de lixo gerada pel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1280" y="1989000"/>
          <a:ext cx="7993080" cy="384048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  <a:gridCol w="266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ração por 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or mês (R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id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r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é 1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a 2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a 3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a 60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is de 60 litros (60 a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 a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2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ima de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de gerador – necessita contratar empresa cadastrada pela prefeitura e arcar com os cu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33"/>
          <p:cNvSpPr/>
          <p:nvPr/>
        </p:nvSpPr>
        <p:spPr>
          <a:xfrm>
            <a:off x="0" y="112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ixa e Valores para cobrança dos serviços de coleta de resíduos urbanos na cidade de São Paulo 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4"/>
          <p:cNvSpPr/>
          <p:nvPr/>
        </p:nvSpPr>
        <p:spPr>
          <a:xfrm>
            <a:off x="395280" y="33228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15573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3 - A Taxa de Limpeza Pública - TLP tem como fato gerador a utilização efetiva ou potencial dos serviços municipais de coleta, remoção e destinação de lixo, prestados ao contribuinte ou postos à sua dispo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4 - A taxa é calculada com base n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UFIR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de acordo com as seguintes fórmul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 - para os imóveis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LP = Ui x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R$ 27,28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x Ac (onde: Ui = fator de utilização do imóvel, Ac = área construíd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I - para imóveis não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LP = At x 0,03 x R$ 27,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nde: At = área do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1º - Na hipótese de utilização diversificada do imóvel, é aplicado o maior fator de utilização do imóvel (Ui), no cálculo da TL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2º - A taxa é cobrada em dobro para os imóveis não edificados e desprovidos de m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II – Natal (taxa,cobrada em conjunto com o IPTU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ada no tipo de tipo de uso e área do imó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185840"/>
            <a:ext cx="80769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CAMINHOS DA POLÍTICA NACIONAL DE RESÍDUOS SÓLI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APTADO DA APRESENTAÇÃO DE MARCO ANTONIO BOZINO DO M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6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454040"/>
            <a:ext cx="853452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l da década de 80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eiras iniciativas legislativas para definição de diretrizes para resídu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resentado o PL 203 e, posteriormente, apensados cerca de 70 P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lho do CONAMA aprova Proposi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iada na Câmara dos Deputados a Comissão Especial de  Política Nacional de Resíduos”, tendo o Dep. Emerson Kapaz - Substitutivo Global da PL 203/91 e seus apensos. Comissão extinta pelo encerramento da legisl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4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QA/MMA reinicia as discussões internas com a                 Participação das diversas Secretarias do MMA, PNMA, PNMA,  IBAMA e GTI de Saneamento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osto de 2004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aliza o Seminário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 Contribuições à Proposição CONAMA - Política Nacional de Resíduos Sólidos”com 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icipação d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EF, ANVISA, MTE, MDS, MCidades, IBAMA, ANA, Petrobrás, Câmara dos Deputados, OEMA’s,ABRS, ABEMA, ABIPET, ABRE, ABRELPE, ABPL, ASCAMAR, CNI, CNC, FIESP/CIESP, CEMPRE, universidades, empresas de consultoria,  prefeituras municipais e setor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5 - Criado o GT-GAU/SQA de Consolidação para a PN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Sistematização das contribuições do Seminári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181480" y="5629320"/>
            <a:ext cx="2295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81280" y="3008160"/>
            <a:ext cx="1868760" cy="1411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057320" y="4943520"/>
            <a:ext cx="237168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867280" y="38768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752400" y="3571920"/>
            <a:ext cx="1838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6"/>
          <a:stretch/>
        </p:blipFill>
        <p:spPr>
          <a:xfrm>
            <a:off x="600120" y="1971720"/>
            <a:ext cx="2448000" cy="100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7"/>
          <a:stretch/>
        </p:blipFill>
        <p:spPr>
          <a:xfrm>
            <a:off x="6095880" y="20480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343320" y="1133640"/>
            <a:ext cx="2066760" cy="84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9808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NTES DE CONSUL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6360" y="1562040"/>
            <a:ext cx="7769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ÇÕES                                                        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IS                                                         DE L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S                           CO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S                                                           LIT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 PN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495680" y="20574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98800" y="304812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1240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895480" y="3962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3505320" y="4556160"/>
            <a:ext cx="2286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470200" y="41148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952880" y="4648320"/>
            <a:ext cx="3812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467480" y="6583320"/>
            <a:ext cx="1676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00"/>
                </a:solidFill>
                <a:latin typeface="Times New Roman"/>
              </a:rPr>
              <a:t>GAU/PGT/SQA/M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7"/>
          <p:cNvSpPr/>
          <p:nvPr/>
        </p:nvSpPr>
        <p:spPr>
          <a:xfrm>
            <a:off x="7238880" y="5715000"/>
            <a:ext cx="10670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18"/>
          <p:cNvSpPr/>
          <p:nvPr/>
        </p:nvSpPr>
        <p:spPr>
          <a:xfrm>
            <a:off x="3352680" y="5715000"/>
            <a:ext cx="26672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19"/>
          <p:cNvSpPr/>
          <p:nvPr/>
        </p:nvSpPr>
        <p:spPr>
          <a:xfrm>
            <a:off x="5105520" y="4876920"/>
            <a:ext cx="320040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120"/>
          <p:cNvSpPr/>
          <p:nvPr/>
        </p:nvSpPr>
        <p:spPr>
          <a:xfrm>
            <a:off x="2438280" y="4876920"/>
            <a:ext cx="190512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121"/>
          <p:cNvSpPr/>
          <p:nvPr/>
        </p:nvSpPr>
        <p:spPr>
          <a:xfrm>
            <a:off x="838080" y="4038480"/>
            <a:ext cx="3962520" cy="457200"/>
          </a:xfrm>
          <a:prstGeom prst="roundRect">
            <a:avLst>
              <a:gd name="adj" fmla="val 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553080" y="2286000"/>
            <a:ext cx="175284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123"/>
          <p:cNvSpPr/>
          <p:nvPr/>
        </p:nvSpPr>
        <p:spPr>
          <a:xfrm>
            <a:off x="495288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124"/>
          <p:cNvSpPr/>
          <p:nvPr/>
        </p:nvSpPr>
        <p:spPr>
          <a:xfrm>
            <a:off x="350532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125"/>
          <p:cNvSpPr/>
          <p:nvPr/>
        </p:nvSpPr>
        <p:spPr>
          <a:xfrm>
            <a:off x="205740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26"/>
          <p:cNvSpPr/>
          <p:nvPr/>
        </p:nvSpPr>
        <p:spPr>
          <a:xfrm>
            <a:off x="533520" y="2286000"/>
            <a:ext cx="129528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27"/>
          <p:cNvSpPr/>
          <p:nvPr/>
        </p:nvSpPr>
        <p:spPr>
          <a:xfrm>
            <a:off x="3962520" y="1143000"/>
            <a:ext cx="799920" cy="457200"/>
          </a:xfrm>
          <a:prstGeom prst="roundRect">
            <a:avLst>
              <a:gd name="adj" fmla="val 34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685800" y="936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GRAÇÃO DAS 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9"/>
          <p:cNvSpPr/>
          <p:nvPr/>
        </p:nvSpPr>
        <p:spPr>
          <a:xfrm>
            <a:off x="685800" y="121932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ÉRIOS                                                                                                              REPRESENT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ÓRGÃOS               ESTADOS                  DF                    MUNICÍPIOS                             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IS                                                                                                                         SOCIE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ENAR FORMAS DE IMPLEME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 AÇÕES                     GARANTIR ACESSO A 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PROGRAMAS                                  POLÍ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30"/>
          <p:cNvSpPr/>
          <p:nvPr/>
        </p:nvSpPr>
        <p:spPr>
          <a:xfrm>
            <a:off x="434340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31"/>
          <p:cNvSpPr/>
          <p:nvPr/>
        </p:nvSpPr>
        <p:spPr>
          <a:xfrm>
            <a:off x="4343400" y="18288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32"/>
          <p:cNvSpPr/>
          <p:nvPr/>
        </p:nvSpPr>
        <p:spPr>
          <a:xfrm>
            <a:off x="74674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33"/>
          <p:cNvSpPr/>
          <p:nvPr/>
        </p:nvSpPr>
        <p:spPr>
          <a:xfrm>
            <a:off x="5486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4"/>
          <p:cNvSpPr/>
          <p:nvPr/>
        </p:nvSpPr>
        <p:spPr>
          <a:xfrm>
            <a:off x="4343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35"/>
          <p:cNvSpPr/>
          <p:nvPr/>
        </p:nvSpPr>
        <p:spPr>
          <a:xfrm flipH="1">
            <a:off x="1203480" y="182880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121932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7"/>
          <p:cNvSpPr/>
          <p:nvPr/>
        </p:nvSpPr>
        <p:spPr>
          <a:xfrm>
            <a:off x="26668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1828800" y="2743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39"/>
          <p:cNvSpPr/>
          <p:nvPr/>
        </p:nvSpPr>
        <p:spPr>
          <a:xfrm>
            <a:off x="4648320" y="27432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40"/>
          <p:cNvSpPr/>
          <p:nvPr/>
        </p:nvSpPr>
        <p:spPr>
          <a:xfrm>
            <a:off x="609588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200400" y="27432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42"/>
          <p:cNvSpPr/>
          <p:nvPr/>
        </p:nvSpPr>
        <p:spPr>
          <a:xfrm>
            <a:off x="44197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3"/>
          <p:cNvSpPr/>
          <p:nvPr/>
        </p:nvSpPr>
        <p:spPr>
          <a:xfrm flipH="1">
            <a:off x="2727000" y="3505320"/>
            <a:ext cx="17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4"/>
          <p:cNvSpPr/>
          <p:nvPr/>
        </p:nvSpPr>
        <p:spPr>
          <a:xfrm>
            <a:off x="2743200" y="3505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45"/>
          <p:cNvSpPr/>
          <p:nvPr/>
        </p:nvSpPr>
        <p:spPr>
          <a:xfrm>
            <a:off x="3276720" y="4495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46"/>
          <p:cNvSpPr/>
          <p:nvPr/>
        </p:nvSpPr>
        <p:spPr>
          <a:xfrm>
            <a:off x="4038480" y="52578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47"/>
          <p:cNvSpPr/>
          <p:nvPr/>
        </p:nvSpPr>
        <p:spPr>
          <a:xfrm>
            <a:off x="6019920" y="586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48"/>
          <p:cNvSpPr/>
          <p:nvPr/>
        </p:nvSpPr>
        <p:spPr>
          <a:xfrm flipV="1">
            <a:off x="7772400" y="52419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49"/>
          <p:cNvSpPr/>
          <p:nvPr/>
        </p:nvSpPr>
        <p:spPr>
          <a:xfrm flipV="1">
            <a:off x="6781680" y="3489480"/>
            <a:ext cx="180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50"/>
          <p:cNvSpPr/>
          <p:nvPr/>
        </p:nvSpPr>
        <p:spPr>
          <a:xfrm flipH="1">
            <a:off x="5394240" y="3505320"/>
            <a:ext cx="1403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1"/>
          <p:cNvSpPr/>
          <p:nvPr/>
        </p:nvSpPr>
        <p:spPr>
          <a:xfrm flipV="1">
            <a:off x="4419720" y="1584000"/>
            <a:ext cx="14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2"/>
          <p:cNvSpPr/>
          <p:nvPr/>
        </p:nvSpPr>
        <p:spPr>
          <a:xfrm flipV="1">
            <a:off x="4495680" y="318420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3"/>
          <p:cNvSpPr/>
          <p:nvPr/>
        </p:nvSpPr>
        <p:spPr>
          <a:xfrm flipH="1">
            <a:off x="4479840" y="35053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154"/>
          <p:cNvGrpSpPr/>
          <p:nvPr/>
        </p:nvGrpSpPr>
        <p:grpSpPr>
          <a:xfrm>
            <a:off x="6472440" y="6450120"/>
            <a:ext cx="2671560" cy="385560"/>
            <a:chOff x="6472440" y="6450120"/>
            <a:chExt cx="2671560" cy="385560"/>
          </a:xfrm>
        </p:grpSpPr>
        <p:sp>
          <p:nvSpPr>
            <p:cNvPr id="273" name="AutoShape 155"/>
            <p:cNvSpPr/>
            <p:nvPr/>
          </p:nvSpPr>
          <p:spPr>
            <a:xfrm>
              <a:off x="6477120" y="6451560"/>
              <a:ext cx="265428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156"/>
            <p:cNvGrpSpPr/>
            <p:nvPr/>
          </p:nvGrpSpPr>
          <p:grpSpPr>
            <a:xfrm>
              <a:off x="6472440" y="6450120"/>
              <a:ext cx="2671560" cy="384120"/>
              <a:chOff x="6472440" y="6450120"/>
              <a:chExt cx="2671560" cy="384120"/>
            </a:xfrm>
          </p:grpSpPr>
          <p:sp>
            <p:nvSpPr>
              <p:cNvPr id="275" name="AutoShape 157"/>
              <p:cNvSpPr/>
              <p:nvPr/>
            </p:nvSpPr>
            <p:spPr>
              <a:xfrm>
                <a:off x="6477120" y="6451560"/>
                <a:ext cx="264312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Group 158"/>
              <p:cNvGrpSpPr/>
              <p:nvPr/>
            </p:nvGrpSpPr>
            <p:grpSpPr>
              <a:xfrm>
                <a:off x="6472440" y="6450120"/>
                <a:ext cx="2671560" cy="384120"/>
                <a:chOff x="6472440" y="6450120"/>
                <a:chExt cx="2671560" cy="384120"/>
              </a:xfrm>
            </p:grpSpPr>
            <p:sp>
              <p:nvSpPr>
                <p:cNvPr id="277" name="AutoShape 159"/>
                <p:cNvSpPr/>
                <p:nvPr/>
              </p:nvSpPr>
              <p:spPr>
                <a:xfrm>
                  <a:off x="6477120" y="6451560"/>
                  <a:ext cx="26334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Group 160"/>
                <p:cNvGrpSpPr/>
                <p:nvPr/>
              </p:nvGrpSpPr>
              <p:grpSpPr>
                <a:xfrm>
                  <a:off x="6472440" y="6450120"/>
                  <a:ext cx="2671560" cy="384120"/>
                  <a:chOff x="6472440" y="6450120"/>
                  <a:chExt cx="2671560" cy="384120"/>
                </a:xfrm>
              </p:grpSpPr>
              <p:sp>
                <p:nvSpPr>
                  <p:cNvPr id="279" name="AutoShape 161"/>
                  <p:cNvSpPr/>
                  <p:nvPr/>
                </p:nvSpPr>
                <p:spPr>
                  <a:xfrm>
                    <a:off x="6477120" y="6451560"/>
                    <a:ext cx="2625480" cy="35712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Group 162"/>
                  <p:cNvGrpSpPr/>
                  <p:nvPr/>
                </p:nvGrpSpPr>
                <p:grpSpPr>
                  <a:xfrm>
                    <a:off x="6472440" y="6450120"/>
                    <a:ext cx="2671560" cy="384120"/>
                    <a:chOff x="6472440" y="6450120"/>
                    <a:chExt cx="2671560" cy="384120"/>
                  </a:xfrm>
                </p:grpSpPr>
                <p:sp>
                  <p:nvSpPr>
                    <p:cNvPr id="281" name="AutoShape 163"/>
                    <p:cNvSpPr/>
                    <p:nvPr/>
                  </p:nvSpPr>
                  <p:spPr>
                    <a:xfrm>
                      <a:off x="6477120" y="6451560"/>
                      <a:ext cx="2619360" cy="35100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" name="Group 164"/>
                    <p:cNvGrpSpPr/>
                    <p:nvPr/>
                  </p:nvGrpSpPr>
                  <p:grpSpPr>
                    <a:xfrm>
                      <a:off x="6472440" y="6450120"/>
                      <a:ext cx="2671560" cy="384120"/>
                      <a:chOff x="6472440" y="6450120"/>
                      <a:chExt cx="2671560" cy="384120"/>
                    </a:xfrm>
                  </p:grpSpPr>
                  <p:sp>
                    <p:nvSpPr>
                      <p:cNvPr id="283" name="AutoShape 165"/>
                      <p:cNvSpPr/>
                      <p:nvPr/>
                    </p:nvSpPr>
                    <p:spPr>
                      <a:xfrm>
                        <a:off x="6477120" y="6451560"/>
                        <a:ext cx="2612880" cy="344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4" name="Group 166"/>
                      <p:cNvGrpSpPr/>
                      <p:nvPr/>
                    </p:nvGrpSpPr>
                    <p:grpSpPr>
                      <a:xfrm>
                        <a:off x="6472440" y="6450120"/>
                        <a:ext cx="2671560" cy="384120"/>
                        <a:chOff x="6472440" y="6450120"/>
                        <a:chExt cx="2671560" cy="384120"/>
                      </a:xfrm>
                    </p:grpSpPr>
                    <p:sp>
                      <p:nvSpPr>
                        <p:cNvPr id="285" name="AutoShape 167"/>
                        <p:cNvSpPr/>
                        <p:nvPr/>
                      </p:nvSpPr>
                      <p:spPr>
                        <a:xfrm>
                          <a:off x="6477120" y="6451560"/>
                          <a:ext cx="2609640" cy="3398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6" name="Group 168"/>
                        <p:cNvGrpSpPr/>
                        <p:nvPr/>
                      </p:nvGrpSpPr>
                      <p:grpSpPr>
                        <a:xfrm>
                          <a:off x="6472440" y="6450120"/>
                          <a:ext cx="2671560" cy="384120"/>
                          <a:chOff x="6472440" y="6450120"/>
                          <a:chExt cx="2671560" cy="384120"/>
                        </a:xfrm>
                      </p:grpSpPr>
                      <p:sp>
                        <p:nvSpPr>
                          <p:cNvPr id="287" name="AutoShape 16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08200" cy="33804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8" name="Group 170"/>
                          <p:cNvGrpSpPr/>
                          <p:nvPr/>
                        </p:nvGrpSpPr>
                        <p:grpSpPr>
                          <a:xfrm>
                            <a:off x="6472440" y="6450120"/>
                            <a:ext cx="2671560" cy="384120"/>
                            <a:chOff x="6472440" y="6450120"/>
                            <a:chExt cx="2671560" cy="384120"/>
                          </a:xfrm>
                        </p:grpSpPr>
                        <p:sp>
                          <p:nvSpPr>
                            <p:cNvPr id="289" name="AutoShape 17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06400" cy="33804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0" name="AutoShape 172"/>
                            <p:cNvSpPr/>
                            <p:nvPr/>
                          </p:nvSpPr>
                          <p:spPr>
                            <a:xfrm>
                              <a:off x="6472440" y="645012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659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RINCIPAIS CONCEITOS ADOT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7800" y="1680840"/>
            <a:ext cx="7766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GESTÃO, GERENCIAMENTO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MANEJO INTEGRADO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SÓL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LOGÍSTICA REVER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e REJEI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47560" y="160020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547560" y="390384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6"/>
          <p:cNvSpPr/>
          <p:nvPr/>
        </p:nvSpPr>
        <p:spPr>
          <a:xfrm>
            <a:off x="547560" y="5162400"/>
            <a:ext cx="443160" cy="60984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64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ÍDUOS: descarte da produção e do consumo/sistema de limpez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JEITOS: resíduos sólidos que não têm aproveitamento econômico por nenhum processo tecnológico disponível e ace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28600" y="4181400"/>
            <a:ext cx="4276800" cy="107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838080" y="3191040"/>
            <a:ext cx="3057480" cy="84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1600200" y="2133720"/>
            <a:ext cx="1685880" cy="1076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– GERENCIAMENTO – MANEJ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                                  DEFINE A POLÍTICA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MENTO                   IMPLEMENTA A POLÍ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JO                   OPERACIONA A IMPLEMENTAÇÃ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3946680" y="2971800"/>
            <a:ext cx="79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870000" y="3809880"/>
            <a:ext cx="79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3413160" y="4800600"/>
            <a:ext cx="86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6437520" y="6451560"/>
            <a:ext cx="2692080" cy="384120"/>
            <a:chOff x="6437520" y="6451560"/>
            <a:chExt cx="2692080" cy="384120"/>
          </a:xfrm>
        </p:grpSpPr>
        <p:sp>
          <p:nvSpPr>
            <p:cNvPr id="306" name="AutoShape 11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6437520" y="6451560"/>
              <a:ext cx="2679120" cy="384120"/>
              <a:chOff x="6437520" y="6451560"/>
              <a:chExt cx="2679120" cy="384120"/>
            </a:xfrm>
          </p:grpSpPr>
          <p:sp>
            <p:nvSpPr>
              <p:cNvPr id="308" name="AutoShape 13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Group 14"/>
              <p:cNvGrpSpPr/>
              <p:nvPr/>
            </p:nvGrpSpPr>
            <p:grpSpPr>
              <a:xfrm>
                <a:off x="6437520" y="6451560"/>
                <a:ext cx="2671560" cy="384120"/>
                <a:chOff x="6437520" y="6451560"/>
                <a:chExt cx="2671560" cy="384120"/>
              </a:xfrm>
            </p:grpSpPr>
            <p:sp>
              <p:nvSpPr>
                <p:cNvPr id="310" name="AutoShape 15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Group 16"/>
                <p:cNvGrpSpPr/>
                <p:nvPr/>
              </p:nvGrpSpPr>
              <p:grpSpPr>
                <a:xfrm>
                  <a:off x="6437520" y="6451560"/>
                  <a:ext cx="2671560" cy="384120"/>
                  <a:chOff x="6437520" y="6451560"/>
                  <a:chExt cx="2671560" cy="384120"/>
                </a:xfrm>
              </p:grpSpPr>
              <p:sp>
                <p:nvSpPr>
                  <p:cNvPr id="312" name="AutoShape 17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Group 18"/>
                  <p:cNvGrpSpPr/>
                  <p:nvPr/>
                </p:nvGrpSpPr>
                <p:grpSpPr>
                  <a:xfrm>
                    <a:off x="6437520" y="6451560"/>
                    <a:ext cx="2671560" cy="384120"/>
                    <a:chOff x="6437520" y="6451560"/>
                    <a:chExt cx="2671560" cy="384120"/>
                  </a:xfrm>
                </p:grpSpPr>
                <p:sp>
                  <p:nvSpPr>
                    <p:cNvPr id="314" name="AutoShape 19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Group 20"/>
                    <p:cNvGrpSpPr/>
                    <p:nvPr/>
                  </p:nvGrpSpPr>
                  <p:grpSpPr>
                    <a:xfrm>
                      <a:off x="6437520" y="6451560"/>
                      <a:ext cx="2671560" cy="384120"/>
                      <a:chOff x="6437520" y="6451560"/>
                      <a:chExt cx="2671560" cy="384120"/>
                    </a:xfrm>
                  </p:grpSpPr>
                  <p:sp>
                    <p:nvSpPr>
                      <p:cNvPr id="316" name="AutoShape 21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7" name="Group 22"/>
                      <p:cNvGrpSpPr/>
                      <p:nvPr/>
                    </p:nvGrpSpPr>
                    <p:grpSpPr>
                      <a:xfrm>
                        <a:off x="6437520" y="6451560"/>
                        <a:ext cx="2671560" cy="384120"/>
                        <a:chOff x="6437520" y="6451560"/>
                        <a:chExt cx="2671560" cy="384120"/>
                      </a:xfrm>
                    </p:grpSpPr>
                    <p:sp>
                      <p:nvSpPr>
                        <p:cNvPr id="318" name="AutoShape 23"/>
                        <p:cNvSpPr/>
                        <p:nvPr/>
                      </p:nvSpPr>
                      <p:spPr>
                        <a:xfrm>
                          <a:off x="6477120" y="6451560"/>
                          <a:ext cx="2598480" cy="3290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9" name="Group 24"/>
                        <p:cNvGrpSpPr/>
                        <p:nvPr/>
                      </p:nvGrpSpPr>
                      <p:grpSpPr>
                        <a:xfrm>
                          <a:off x="6437520" y="6451560"/>
                          <a:ext cx="2671560" cy="384120"/>
                          <a:chOff x="6437520" y="6451560"/>
                          <a:chExt cx="2671560" cy="384120"/>
                        </a:xfrm>
                      </p:grpSpPr>
                      <p:sp>
                        <p:nvSpPr>
                          <p:cNvPr id="320" name="AutoShape 25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595240" cy="32580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1" name="Group 26"/>
                          <p:cNvGrpSpPr/>
                          <p:nvPr/>
                        </p:nvGrpSpPr>
                        <p:grpSpPr>
                          <a:xfrm>
                            <a:off x="6437520" y="6451560"/>
                            <a:ext cx="2671560" cy="384120"/>
                            <a:chOff x="6437520" y="6451560"/>
                            <a:chExt cx="2671560" cy="384120"/>
                          </a:xfrm>
                        </p:grpSpPr>
                        <p:sp>
                          <p:nvSpPr>
                            <p:cNvPr id="322" name="AutoShape 27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592000" cy="32436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AutoShape 28"/>
                            <p:cNvSpPr/>
                            <p:nvPr/>
                          </p:nvSpPr>
                          <p:spPr>
                            <a:xfrm>
                              <a:off x="6437520" y="645156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26828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EGISLAÇÃO BRASIL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cisos VI e IX o art. 23, que estabelecem ser competência comum da União, os estados, o Distrito Federal e dos municípios proteger o meio ambiente e combater a poluição em qualquer das suas formas, bem como promover programas de construção de moradias e a melhoria do saneamento bás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os incisos I e V do art. 30 estabelecem como atribuição municipal legislar sobre assuntos de interesse local, especialmente quanto a organização dos seus serviços públicos, como é o caso a limpeza urba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3520" y="1590840"/>
            <a:ext cx="2066760" cy="1685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STÃO INTEGRADA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-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DEFINE A 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ados, Distrito Federal e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ende as ações referentes a tomada de decisões políticas e estratégicas, quanto aos aspectos institucionais, operacionais, financeiros, sociais e ambientais relacionados aos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28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30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32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34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36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7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38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9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40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1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42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3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44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5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80880" y="1590840"/>
            <a:ext cx="2448000" cy="107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RENCIAMENTO E PLANO DE GERENCIAMENT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S            IMPLEMENTA A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rito Federal, Municípios e demais g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mada de decisões estratégicas quando do desenvolvimento e implementação das ações definidas no Plano de Gestão Integrada de Resíduos Sóli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50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52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54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56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58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9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60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1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62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3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64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5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66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590840"/>
            <a:ext cx="4048200" cy="1000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096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LANO DE MANEJ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7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MI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Times New Roman"/>
              </a:rPr>
              <a:t>Disponibilizado para consult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 A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odos os ge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lização das etapas de segregação, coleta, manipulação, acondicionamento, transporte, armazenamento, transbordo, triagem e tratamento, comercialização, logística reversa e disposição final dos rejeitos, observadas as diretrizes estabelecidas no Plano de Gerenciamento Integrado de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72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74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76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78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80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82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3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84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5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86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88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9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305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392" name="AutoShape 4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394" name="AutoShape 6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Group 7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396" name="AutoShape 8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Group 9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398" name="AutoShape 10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Group 11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400" name="AutoShape 12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1" name="Group 13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402" name="AutoShape 14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04" name="Text Box 17"/>
          <p:cNvSpPr/>
          <p:nvPr/>
        </p:nvSpPr>
        <p:spPr>
          <a:xfrm>
            <a:off x="324000" y="1268280"/>
            <a:ext cx="8607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junto de ações, procedimentos e meios, destinados a facilitar a coleta e a restituição dos resíduos sólidos ao centro que os produziu, para o seu reaproveitamento na forma de novas matérias-primas em seu processo produtivo ou de terceiros, seu tratamento, e a disposição final adequada dos rej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50920" y="393084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Logística Reversa agrega valor na cadeia com o objetivo de tornar possível o retorno dos bens ou de seus materiais ao ciclo produtivo e posteriormente no ponto de consumo novamente. Agrega valor econômico, social, ecológico, legal e de localização ao planejar os bolsões reversos e informações de como operacionalizar os mesm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NAIS DE DISTRIBUIÇÃO DIRETOS E REVERS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038480" y="205740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 Virg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4419720" y="2514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038480" y="2819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419720" y="3124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038480" y="3352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419720" y="3657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962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038480" y="4495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4419720" y="4267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286000" y="5105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2438280" y="5257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2590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828800" y="5181480"/>
            <a:ext cx="29718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86200" y="5791320"/>
            <a:ext cx="38098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CONSU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41972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800600" y="54100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172200" y="5181480"/>
            <a:ext cx="10666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1981080" y="4419720"/>
            <a:ext cx="106704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867280" y="2971800"/>
            <a:ext cx="205740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  / Desmanche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iclagem Industr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095880" y="3809880"/>
            <a:ext cx="12956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172200" y="4495680"/>
            <a:ext cx="106668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 Rever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1981080" y="358128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1981080" y="281952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leção / Dest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26"/>
          <p:cNvSpPr/>
          <p:nvPr/>
        </p:nvSpPr>
        <p:spPr>
          <a:xfrm>
            <a:off x="6629400" y="54864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6629400" y="4952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8"/>
          <p:cNvSpPr/>
          <p:nvPr/>
        </p:nvSpPr>
        <p:spPr>
          <a:xfrm>
            <a:off x="6629400" y="41911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29"/>
          <p:cNvSpPr/>
          <p:nvPr/>
        </p:nvSpPr>
        <p:spPr>
          <a:xfrm>
            <a:off x="2362320" y="327672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2362320" y="40384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2362320" y="47242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124080" y="297180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715000" y="2057400"/>
            <a:ext cx="129528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cundár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981080" y="198108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2362320" y="251460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7"/>
          <p:cNvSpPr/>
          <p:nvPr/>
        </p:nvSpPr>
        <p:spPr>
          <a:xfrm>
            <a:off x="6095880" y="2666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38"/>
          <p:cNvSpPr/>
          <p:nvPr/>
        </p:nvSpPr>
        <p:spPr>
          <a:xfrm flipH="1">
            <a:off x="5181480" y="266688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8305920" y="2971800"/>
            <a:ext cx="304560" cy="32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- CONSUM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1066680" y="2743200"/>
            <a:ext cx="381240" cy="2935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523880" y="601992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não 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523880" y="5638680"/>
            <a:ext cx="121932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 flipV="1">
            <a:off x="2819160" y="5714640"/>
            <a:ext cx="106668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2742840" y="5943600"/>
            <a:ext cx="11430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7162920" y="2133720"/>
            <a:ext cx="121896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46"/>
          <p:cNvSpPr/>
          <p:nvPr/>
        </p:nvSpPr>
        <p:spPr>
          <a:xfrm>
            <a:off x="7391520" y="26668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7"/>
          <p:cNvSpPr/>
          <p:nvPr/>
        </p:nvSpPr>
        <p:spPr>
          <a:xfrm>
            <a:off x="6629400" y="35053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048120" y="32004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E  BEN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95280" y="2133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905120"/>
            <a:ext cx="411480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S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S DE EXPED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CONSIG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CESSO DE ESTO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RO BAIX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SAZ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FEITUO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ALL D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ALIDADE EXPI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NIFICADOS TRÂN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724280" y="1905120"/>
            <a:ext cx="441972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PRIM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E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OAÇÃO EM CA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ICL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POSIÇÃ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OS BENS PÓS - CONSUM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09480" y="2133720"/>
            <a:ext cx="3886200" cy="3083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 DO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UTILIDADE AO PRIMEIRO UTILIZ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LV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VIDA ÚT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ÍDUOS INDUST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2149560"/>
            <a:ext cx="3733560" cy="3607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RRO SA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C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VISTAS E JORN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IVR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TORNO DO VAREJ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MBALAGENS RETORNÁ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-CONSUM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EIL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UTOMÓVEIS ; ELETRODOMÉ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UTADORES E PERIF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ATERIAS DE AUTOMÓ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BALAGEN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ÍDUO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NOVO CONSUMIDOR E A  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457200" y="2743200"/>
            <a:ext cx="167652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R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2286000" y="2819520"/>
            <a:ext cx="1447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1600200" y="3200400"/>
            <a:ext cx="137628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80988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4648320" y="2895480"/>
            <a:ext cx="152388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6477120" y="2895480"/>
            <a:ext cx="144756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486400" y="3276720"/>
            <a:ext cx="17524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IC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10"/>
          <p:cNvSpPr/>
          <p:nvPr/>
        </p:nvSpPr>
        <p:spPr>
          <a:xfrm rot="11800200">
            <a:off x="7010280" y="3657240"/>
            <a:ext cx="766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utoShape 11"/>
          <p:cNvSpPr/>
          <p:nvPr/>
        </p:nvSpPr>
        <p:spPr>
          <a:xfrm rot="10759800">
            <a:off x="4419000" y="4419000"/>
            <a:ext cx="608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2590920" y="5257800"/>
            <a:ext cx="18288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3"/>
          <p:cNvSpPr/>
          <p:nvPr/>
        </p:nvSpPr>
        <p:spPr>
          <a:xfrm>
            <a:off x="152280" y="5257800"/>
            <a:ext cx="198144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DE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2133720" y="53341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295280" y="2057400"/>
            <a:ext cx="228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O CONSU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5181480" y="2057400"/>
            <a:ext cx="24386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 AMBIENT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62720" y="4572000"/>
            <a:ext cx="228600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O CLIENTE E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47920" y="4495680"/>
            <a:ext cx="20574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GISLAÇÕES AMBIENT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00" y="1713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STÃO INTEGRADA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o que compreende as ações referentes à tomada de decisões políticas e estratégicas quanto aos aspectos institucionais, operacionais, financeiros, sociais e ambientais relacionados aos resíduos sólidos, capaz de orientar a organização do se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Nacional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que determina através da política nacional de resíduos sólidos, os planos, as estratégias setoriais, os aspectos legislativos, e as regulações ambientais e instituc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Estad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a que determina através de sua política estadual o conjunto de normas e procedimentos sobre o manejo integrado e a coloca para que os municípios tenham uma Lei que estabeleça normas e metas d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Municip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uida mais dos aspectos de execução com qualidade o modelo desenvolvido, pelo manejo integrado dos resíduos, para um município ou para um conjunto de municípios, mediante a aprovação dos elementos de decisão política, administrativos, socioculturais e financ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REGULAMENTAÇÕES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MBIENTA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247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 - RESPONSABILIZA GOVERNO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UROPA - RESPONSABILIZAÇÃO DA CADEIA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PÃO - POUCAS LEIS E CONSCIÊNCIA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RASIL: RESPONSABILIDADE PRODU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TOS PERIGOSOS: LEI EXPRE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MAIS : LEI EM CURSO NA CÂMAR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TRATÉGIAS DE IMPLANTAÇÃO DA LOG.RE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ATÉGI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ITIVIDADE E RESPONSABILIDADE EMPRESARI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ÇÕES  ESPECÍF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EQUAÇÃO DO MIX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 PARA LOGÍSTICA REVERSA / EMBALAGEN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CESSOS  INDUSTRIAIS / ANÁLISE DO CICLO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A REDE REVE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ÍVEIS 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S / CONSOLIDAÇÃO / MERCADOS /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CERIAS / TERCEIRIZAÇÕES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OS ASPECTOS FISC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IFICAÇÕES / PROPRIE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559320" y="2403360"/>
            <a:ext cx="260280" cy="451080"/>
            <a:chOff x="3559320" y="2403360"/>
            <a:chExt cx="260280" cy="451080"/>
          </a:xfrm>
        </p:grpSpPr>
        <p:sp>
          <p:nvSpPr>
            <p:cNvPr id="486" name="AutoShape 3"/>
            <p:cNvSpPr/>
            <p:nvPr/>
          </p:nvSpPr>
          <p:spPr>
            <a:xfrm>
              <a:off x="3565440" y="2403360"/>
              <a:ext cx="254160" cy="451080"/>
            </a:xfrm>
            <a:custGeom>
              <a:avLst/>
              <a:gdLst>
                <a:gd name="textAreaLeft" fmla="*/ 360 w 254160"/>
                <a:gd name="textAreaRight" fmla="*/ 253800 w 254160"/>
                <a:gd name="textAreaTop" fmla="*/ 360 h 451080"/>
                <a:gd name="textAreaBottom" fmla="*/ 450720 h 451080"/>
              </a:gdLst>
              <a:ahLst/>
              <a:rect l="textAreaLeft" t="textAreaTop" r="textAreaRight" b="textAreaBottom"/>
              <a:pathLst>
                <a:path w="21600" h="38312">
                  <a:moveTo>
                    <a:pt x="135" y="0"/>
                  </a:moveTo>
                  <a:arcTo wR="135" hR="135" stAng="16200000" swAng="-5400000"/>
                  <a:lnTo>
                    <a:pt x="0" y="38177"/>
                  </a:lnTo>
                  <a:arcTo wR="135" hR="135" stAng="10800000" swAng="-5400000"/>
                  <a:lnTo>
                    <a:pt x="21465" y="38312"/>
                  </a:lnTo>
                  <a:arcTo wR="135" hR="135" stAng="5400000" swAng="-5400000"/>
                  <a:lnTo>
                    <a:pt x="21600" y="135"/>
                  </a:lnTo>
                  <a:arcTo wR="135" hR="13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3559320" y="2403360"/>
              <a:ext cx="257760" cy="447840"/>
              <a:chOff x="3559320" y="2403360"/>
              <a:chExt cx="257760" cy="447840"/>
            </a:xfrm>
          </p:grpSpPr>
          <p:sp>
            <p:nvSpPr>
              <p:cNvPr id="488" name="AutoShape 5"/>
              <p:cNvSpPr/>
              <p:nvPr/>
            </p:nvSpPr>
            <p:spPr>
              <a:xfrm>
                <a:off x="3565440" y="2403360"/>
                <a:ext cx="249480" cy="447840"/>
              </a:xfrm>
              <a:custGeom>
                <a:avLst/>
                <a:gdLst>
                  <a:gd name="textAreaLeft" fmla="*/ 360 w 249480"/>
                  <a:gd name="textAreaRight" fmla="*/ 249120 w 249480"/>
                  <a:gd name="textAreaTop" fmla="*/ 360 h 447840"/>
                  <a:gd name="textAreaBottom" fmla="*/ 447480 h 447840"/>
                </a:gdLst>
                <a:ahLst/>
                <a:rect l="textAreaLeft" t="textAreaTop" r="textAreaRight" b="textAreaBottom"/>
                <a:pathLst>
                  <a:path w="21600" h="38749">
                    <a:moveTo>
                      <a:pt x="136" y="0"/>
                    </a:moveTo>
                    <a:arcTo wR="136" hR="136" stAng="16200000" swAng="-5400000"/>
                    <a:lnTo>
                      <a:pt x="0" y="38613"/>
                    </a:lnTo>
                    <a:arcTo wR="136" hR="136" stAng="10800000" swAng="-5400000"/>
                    <a:lnTo>
                      <a:pt x="21464" y="38749"/>
                    </a:lnTo>
                    <a:arcTo wR="136" hR="136" stAng="5400000" swAng="-5400000"/>
                    <a:lnTo>
                      <a:pt x="21600" y="136"/>
                    </a:lnTo>
                    <a:arcTo wR="136" hR="13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9" name="Group 6"/>
              <p:cNvGrpSpPr/>
              <p:nvPr/>
            </p:nvGrpSpPr>
            <p:grpSpPr>
              <a:xfrm>
                <a:off x="3559320" y="2403360"/>
                <a:ext cx="257760" cy="444600"/>
                <a:chOff x="3559320" y="2403360"/>
                <a:chExt cx="257760" cy="444600"/>
              </a:xfrm>
            </p:grpSpPr>
            <p:sp>
              <p:nvSpPr>
                <p:cNvPr id="490" name="AutoShape 7"/>
                <p:cNvSpPr/>
                <p:nvPr/>
              </p:nvSpPr>
              <p:spPr>
                <a:xfrm>
                  <a:off x="3565440" y="2403360"/>
                  <a:ext cx="246600" cy="444600"/>
                </a:xfrm>
                <a:custGeom>
                  <a:avLst/>
                  <a:gdLst>
                    <a:gd name="textAreaLeft" fmla="*/ 360 w 246600"/>
                    <a:gd name="textAreaRight" fmla="*/ 246240 w 246600"/>
                    <a:gd name="textAreaTop" fmla="*/ 360 h 444600"/>
                    <a:gd name="textAreaBottom" fmla="*/ 444240 h 444600"/>
                  </a:gdLst>
                  <a:ahLst/>
                  <a:rect l="textAreaLeft" t="textAreaTop" r="textAreaRight" b="textAreaBottom"/>
                  <a:pathLst>
                    <a:path w="21600" h="38918">
                      <a:moveTo>
                        <a:pt x="136" y="0"/>
                      </a:moveTo>
                      <a:arcTo wR="136" hR="136" stAng="16200000" swAng="-5400000"/>
                      <a:lnTo>
                        <a:pt x="0" y="38782"/>
                      </a:lnTo>
                      <a:arcTo wR="136" hR="136" stAng="10800000" swAng="-5400000"/>
                      <a:lnTo>
                        <a:pt x="21464" y="38918"/>
                      </a:lnTo>
                      <a:arcTo wR="136" hR="136" stAng="5400000" swAng="-5400000"/>
                      <a:lnTo>
                        <a:pt x="21600" y="136"/>
                      </a:lnTo>
                      <a:arcTo wR="136" hR="13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8"/>
                <p:cNvGrpSpPr/>
                <p:nvPr/>
              </p:nvGrpSpPr>
              <p:grpSpPr>
                <a:xfrm>
                  <a:off x="3559320" y="2403360"/>
                  <a:ext cx="257760" cy="442080"/>
                  <a:chOff x="3559320" y="2403360"/>
                  <a:chExt cx="257760" cy="442080"/>
                </a:xfrm>
              </p:grpSpPr>
              <p:sp>
                <p:nvSpPr>
                  <p:cNvPr id="492" name="AutoShape 9"/>
                  <p:cNvSpPr/>
                  <p:nvPr/>
                </p:nvSpPr>
                <p:spPr>
                  <a:xfrm>
                    <a:off x="3565440" y="2403360"/>
                    <a:ext cx="245160" cy="441360"/>
                  </a:xfrm>
                  <a:custGeom>
                    <a:avLst/>
                    <a:gdLst>
                      <a:gd name="textAreaLeft" fmla="*/ 360 w 245160"/>
                      <a:gd name="textAreaRight" fmla="*/ 244800 w 245160"/>
                      <a:gd name="textAreaTop" fmla="*/ 360 h 441360"/>
                      <a:gd name="textAreaBottom" fmla="*/ 441000 h 441360"/>
                    </a:gdLst>
                    <a:ahLst/>
                    <a:rect l="textAreaLeft" t="textAreaTop" r="textAreaRight" b="textAreaBottom"/>
                    <a:pathLst>
                      <a:path w="21600" h="38861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8725"/>
                        </a:lnTo>
                        <a:arcTo wR="136" hR="136" stAng="10800000" swAng="-5400000"/>
                        <a:lnTo>
                          <a:pt x="21464" y="38861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AutoShape 10"/>
                  <p:cNvSpPr/>
                  <p:nvPr/>
                </p:nvSpPr>
                <p:spPr>
                  <a:xfrm>
                    <a:off x="3559320" y="2403360"/>
                    <a:ext cx="257760" cy="442080"/>
                  </a:xfrm>
                  <a:custGeom>
                    <a:avLst/>
                    <a:gdLst>
                      <a:gd name="textAreaLeft" fmla="*/ 360 w 257760"/>
                      <a:gd name="textAreaRight" fmla="*/ 257400 w 257760"/>
                      <a:gd name="textAreaTop" fmla="*/ 360 h 442080"/>
                      <a:gd name="textAreaBottom" fmla="*/ 441720 h 442080"/>
                    </a:gdLst>
                    <a:ahLst/>
                    <a:rect l="textAreaLeft" t="textAreaTop" r="textAreaRight" b="textAreaBottom"/>
                    <a:pathLst>
                      <a:path w="21600" h="37024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6888"/>
                        </a:lnTo>
                        <a:arcTo wR="136" hR="136" stAng="10800000" swAng="-5400000"/>
                        <a:lnTo>
                          <a:pt x="21464" y="37024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2308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0360" y="2016000"/>
            <a:ext cx="77230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ações para a garantia do fluxo de retorno dos resíduos sólidos gerado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a própria cadeia produtiva do gerador; ou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cadeias produtivas de outros geradore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zir a poluição e o desperdício de materiais, associados à geração de resíduos sól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rcionar maior incentivo à substituição dos insumos por outros que não degradem o meio amb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84360" y="1052640"/>
            <a:ext cx="7723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INSTRUMENTO DE DESENVOLVIMENTO ECONÔMICO, AMBIENTAL E SO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440" y="448920"/>
            <a:ext cx="7940520" cy="70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mpatibilizar interesses conflitantes entre os agentes econômicos, ambientais, sociais, culturais e políticos que atuam nos municípi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o alinhamento entre os processos de gestão empresarial e mercadológica com os de gestão ambiental, com o objetivo de desenvolver  estratégias susten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stimular a produção e o consumo de produtos derivados de materiais reciclados  e ambientalmente corret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iciar que  as atividades produtivas alcancem marco de eficiência e sustentabilidad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380844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 implemen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ir a geração dos resíduos sóli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uzir os resíduos sólidos na sua orig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utilizar os materiais, maximizando o nível de rotação do sistema revers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r sistemas de recuperação dos resíduos sólidos,  na forma de novas matérias-primas,  novos  produtos ou em outros ciclos produ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6160" y="609120"/>
            <a:ext cx="411660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jetos consorciad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mentar e regular o mercado de resíduos sólidos sujeitos à reutilização e tratament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entivar o crescimento deste merc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abilizar a infra-estrutura necessária para a coleta, tratamento e comercialização  dos resíduos sólidos na forma de novas matérias-pri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502" name="AutoShape 5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504" name="AutoShape 7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Group 8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506" name="AutoShape 9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Group 10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508" name="AutoShape 11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Group 12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510" name="AutoShape 13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1" name="Group 14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512" name="AutoShape 15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3" name="Group 16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514" name="AutoShape 17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15" name="Group 18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516" name="AutoShape 1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7" name="Group 20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518" name="AutoShape 2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AutoShape 22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520" name="Freeform 23"/>
          <p:cNvSpPr/>
          <p:nvPr/>
        </p:nvSpPr>
        <p:spPr>
          <a:xfrm>
            <a:off x="4495680" y="53352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395280" y="6094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4896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rigações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28600" y="609480"/>
            <a:ext cx="8762760" cy="6267600"/>
            <a:chOff x="228600" y="609480"/>
            <a:chExt cx="8762760" cy="6267600"/>
          </a:xfrm>
        </p:grpSpPr>
        <p:grpSp>
          <p:nvGrpSpPr>
            <p:cNvPr id="524" name="Group 4"/>
            <p:cNvGrpSpPr/>
            <p:nvPr/>
          </p:nvGrpSpPr>
          <p:grpSpPr>
            <a:xfrm>
              <a:off x="228600" y="5165280"/>
              <a:ext cx="8748000" cy="1711800"/>
              <a:chOff x="228600" y="5165280"/>
              <a:chExt cx="8748000" cy="171180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228600" y="5165280"/>
                <a:ext cx="8748000" cy="1679400"/>
              </a:xfrm>
              <a:prstGeom prst="roundRect">
                <a:avLst>
                  <a:gd name="adj" fmla="val 10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6"/>
              <p:cNvSpPr/>
              <p:nvPr/>
            </p:nvSpPr>
            <p:spPr>
              <a:xfrm>
                <a:off x="228600" y="5165280"/>
                <a:ext cx="8748000" cy="1711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d) garantir que estejam impressas, em local visível e destacado, nos materiais que acondicionam os produtos de sua responsabilidade, informações sobre as possibilidades de reutilização e tratamento, advertindo o consumidor quanto aos riscos ambientais resultantes de seu abandono no solo, em cursos d'água ou qualquer outro local que não o previsto em lei, ou autorizado pelo órgão ambiental competente, bem como, divulgar por meio de campanhas publicitárias, programas  e mensagens educativas de combate ao descarte indevido e inadequado no meio ambiente dos resíduos sólidos dos produtos de sua responsabilidade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AutoShape 7"/>
            <p:cNvSpPr/>
            <p:nvPr/>
          </p:nvSpPr>
          <p:spPr>
            <a:xfrm>
              <a:off x="6066720" y="3945960"/>
              <a:ext cx="29228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utoShape 8"/>
            <p:cNvSpPr/>
            <p:nvPr/>
          </p:nvSpPr>
          <p:spPr>
            <a:xfrm>
              <a:off x="3151800" y="3945960"/>
              <a:ext cx="29246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228600" y="3945960"/>
              <a:ext cx="2912760" cy="1211400"/>
              <a:chOff x="228600" y="3945960"/>
              <a:chExt cx="2912760" cy="1211400"/>
            </a:xfrm>
          </p:grpSpPr>
          <p:sp>
            <p:nvSpPr>
              <p:cNvPr id="530" name="AutoShape 10"/>
              <p:cNvSpPr/>
              <p:nvPr/>
            </p:nvSpPr>
            <p:spPr>
              <a:xfrm>
                <a:off x="228600" y="3945960"/>
                <a:ext cx="2912760" cy="1211400"/>
              </a:xfrm>
              <a:prstGeom prst="roundRect">
                <a:avLst>
                  <a:gd name="adj" fmla="val 14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11"/>
              <p:cNvSpPr/>
              <p:nvPr/>
            </p:nvSpPr>
            <p:spPr>
              <a:xfrm>
                <a:off x="228600" y="394596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) articular com sua rede de comercialização a implementação da estrutura necessária para garantir o fluxo reverso dos resíduos sólidos gerados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AutoShape 12"/>
            <p:cNvSpPr/>
            <p:nvPr/>
          </p:nvSpPr>
          <p:spPr>
            <a:xfrm>
              <a:off x="6066720" y="2643480"/>
              <a:ext cx="2922840" cy="130824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13"/>
            <p:cNvGrpSpPr/>
            <p:nvPr/>
          </p:nvGrpSpPr>
          <p:grpSpPr>
            <a:xfrm>
              <a:off x="3151800" y="2643480"/>
              <a:ext cx="2910960" cy="1295280"/>
              <a:chOff x="3151800" y="2643480"/>
              <a:chExt cx="2910960" cy="1295280"/>
            </a:xfrm>
          </p:grpSpPr>
          <p:sp>
            <p:nvSpPr>
              <p:cNvPr id="534" name="AutoShape 14"/>
              <p:cNvSpPr/>
              <p:nvPr/>
            </p:nvSpPr>
            <p:spPr>
              <a:xfrm>
                <a:off x="3151800" y="2643480"/>
                <a:ext cx="29109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Text Box 15"/>
              <p:cNvSpPr/>
              <p:nvPr/>
            </p:nvSpPr>
            <p:spPr>
              <a:xfrm>
                <a:off x="3151800" y="2643480"/>
                <a:ext cx="29109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 garantir o recebimento,  criar e manter postos destinados à coleta dos resíduos sólidos do sistema reverso,  e informar ao consumidor a localização desses posto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228600" y="2643480"/>
              <a:ext cx="2912760" cy="1295280"/>
              <a:chOff x="228600" y="2643480"/>
              <a:chExt cx="2912760" cy="1295280"/>
            </a:xfrm>
          </p:grpSpPr>
          <p:sp>
            <p:nvSpPr>
              <p:cNvPr id="537" name="AutoShape 17"/>
              <p:cNvSpPr/>
              <p:nvPr/>
            </p:nvSpPr>
            <p:spPr>
              <a:xfrm>
                <a:off x="228600" y="2643480"/>
                <a:ext cx="29127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Text Box 18"/>
              <p:cNvSpPr/>
              <p:nvPr/>
            </p:nvSpPr>
            <p:spPr>
              <a:xfrm>
                <a:off x="228600" y="264348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coletar os resíduos sólidos e dar disposição final ambientalmente adequada aos rejeitos, sob pena de  responder civil e criminalmente nos termos da legislação ambiental;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9"/>
            <p:cNvGrpSpPr/>
            <p:nvPr/>
          </p:nvGrpSpPr>
          <p:grpSpPr>
            <a:xfrm>
              <a:off x="6066720" y="1204560"/>
              <a:ext cx="2910960" cy="1480680"/>
              <a:chOff x="6066720" y="1204560"/>
              <a:chExt cx="2910960" cy="1480680"/>
            </a:xfrm>
          </p:grpSpPr>
          <p:sp>
            <p:nvSpPr>
              <p:cNvPr id="540" name="AutoShape 20"/>
              <p:cNvSpPr/>
              <p:nvPr/>
            </p:nvSpPr>
            <p:spPr>
              <a:xfrm>
                <a:off x="606672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Text Box 21"/>
              <p:cNvSpPr/>
              <p:nvPr/>
            </p:nvSpPr>
            <p:spPr>
              <a:xfrm>
                <a:off x="6066720" y="1204560"/>
                <a:ext cx="2910960" cy="148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após a utilização do produto, efetuar a entrega  dos resíduos sólidos reversos aos comerciantes e distribuidores, ou destiná-los aos postos de coleta especificado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2"/>
            <p:cNvGrpSpPr/>
            <p:nvPr/>
          </p:nvGrpSpPr>
          <p:grpSpPr>
            <a:xfrm>
              <a:off x="3151800" y="1204560"/>
              <a:ext cx="2910960" cy="1470240"/>
              <a:chOff x="3151800" y="1204560"/>
              <a:chExt cx="2910960" cy="1470240"/>
            </a:xfrm>
          </p:grpSpPr>
          <p:sp>
            <p:nvSpPr>
              <p:cNvPr id="543" name="AutoShape 23"/>
              <p:cNvSpPr/>
              <p:nvPr/>
            </p:nvSpPr>
            <p:spPr>
              <a:xfrm>
                <a:off x="315180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24"/>
              <p:cNvSpPr/>
              <p:nvPr/>
            </p:nvSpPr>
            <p:spPr>
              <a:xfrm>
                <a:off x="3151800" y="1204560"/>
                <a:ext cx="2910960" cy="14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receber, acondicionar e armazenar temporariamente, de forma ambientalmente segura, os resíduos sólidos do sistema reverso;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25"/>
            <p:cNvGrpSpPr/>
            <p:nvPr/>
          </p:nvGrpSpPr>
          <p:grpSpPr>
            <a:xfrm>
              <a:off x="228600" y="1204560"/>
              <a:ext cx="2912760" cy="1427400"/>
              <a:chOff x="228600" y="1204560"/>
              <a:chExt cx="2912760" cy="1427400"/>
            </a:xfrm>
          </p:grpSpPr>
          <p:sp>
            <p:nvSpPr>
              <p:cNvPr id="546" name="AutoShape 26"/>
              <p:cNvSpPr/>
              <p:nvPr/>
            </p:nvSpPr>
            <p:spPr>
              <a:xfrm>
                <a:off x="228600" y="1204560"/>
                <a:ext cx="29127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27"/>
              <p:cNvSpPr/>
              <p:nvPr/>
            </p:nvSpPr>
            <p:spPr>
              <a:xfrm>
                <a:off x="228600" y="1204560"/>
                <a:ext cx="2912760" cy="787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) adotar tecnologias de modo a absorver ou reaproveitar os resíduos sólidos reversos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8"/>
            <p:cNvGrpSpPr/>
            <p:nvPr/>
          </p:nvGrpSpPr>
          <p:grpSpPr>
            <a:xfrm>
              <a:off x="6066720" y="609480"/>
              <a:ext cx="2907720" cy="578520"/>
              <a:chOff x="6066720" y="609480"/>
              <a:chExt cx="2907720" cy="578520"/>
            </a:xfrm>
          </p:grpSpPr>
          <p:sp>
            <p:nvSpPr>
              <p:cNvPr id="549" name="AutoShape 29"/>
              <p:cNvSpPr/>
              <p:nvPr/>
            </p:nvSpPr>
            <p:spPr>
              <a:xfrm>
                <a:off x="606672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30"/>
              <p:cNvSpPr/>
              <p:nvPr/>
            </p:nvSpPr>
            <p:spPr>
              <a:xfrm>
                <a:off x="6066720" y="609480"/>
                <a:ext cx="29077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33440"/>
                    <a:tab algn="l" pos="882720"/>
                    <a:tab algn="l" pos="1332000"/>
                    <a:tab algn="l" pos="1781280"/>
                    <a:tab algn="l" pos="2230560"/>
                    <a:tab algn="l" pos="2679840"/>
                    <a:tab algn="l" pos="3129120"/>
                    <a:tab algn="l" pos="3578400"/>
                    <a:tab algn="l" pos="4027320"/>
                    <a:tab algn="l" pos="4476600"/>
                    <a:tab algn="l" pos="4925880"/>
                    <a:tab algn="l" pos="5389560"/>
                    <a:tab algn="l" pos="5824440"/>
                    <a:tab algn="l" pos="6273720"/>
                    <a:tab algn="l" pos="6723000"/>
                    <a:tab algn="l" pos="7172280"/>
                    <a:tab algn="l" pos="7621560"/>
                    <a:tab algn="l" pos="8070840"/>
                    <a:tab algn="l" pos="8520120"/>
                    <a:tab algn="l" pos="8969400"/>
                    <a:tab algn="l" pos="8970840"/>
                    <a:tab algn="l" pos="9420120"/>
                    <a:tab algn="l" pos="9869400"/>
                    <a:tab algn="l" pos="10321920"/>
                    <a:tab algn="l" pos="10779120"/>
                    <a:tab algn="l" pos="1078056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CONSUMIDORES: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1"/>
            <p:cNvGrpSpPr/>
            <p:nvPr/>
          </p:nvGrpSpPr>
          <p:grpSpPr>
            <a:xfrm>
              <a:off x="3151800" y="609480"/>
              <a:ext cx="2907720" cy="578520"/>
              <a:chOff x="3151800" y="609480"/>
              <a:chExt cx="2907720" cy="578520"/>
            </a:xfrm>
          </p:grpSpPr>
          <p:sp>
            <p:nvSpPr>
              <p:cNvPr id="552" name="AutoShape 32"/>
              <p:cNvSpPr/>
              <p:nvPr/>
            </p:nvSpPr>
            <p:spPr>
              <a:xfrm>
                <a:off x="315180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33"/>
              <p:cNvSpPr/>
              <p:nvPr/>
            </p:nvSpPr>
            <p:spPr>
              <a:xfrm>
                <a:off x="3151800" y="609480"/>
                <a:ext cx="2907720" cy="440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REVENDEDORES, COMERCIANTES E DISTRIBUI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34"/>
            <p:cNvGrpSpPr/>
            <p:nvPr/>
          </p:nvGrpSpPr>
          <p:grpSpPr>
            <a:xfrm>
              <a:off x="228600" y="609480"/>
              <a:ext cx="2909520" cy="578520"/>
              <a:chOff x="228600" y="609480"/>
              <a:chExt cx="2909520" cy="578520"/>
            </a:xfrm>
          </p:grpSpPr>
          <p:sp>
            <p:nvSpPr>
              <p:cNvPr id="555" name="AutoShape 35"/>
              <p:cNvSpPr/>
              <p:nvPr/>
            </p:nvSpPr>
            <p:spPr>
              <a:xfrm>
                <a:off x="228600" y="609480"/>
                <a:ext cx="29095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Text Box 36"/>
              <p:cNvSpPr/>
              <p:nvPr/>
            </p:nvSpPr>
            <p:spPr>
              <a:xfrm>
                <a:off x="228600" y="609480"/>
                <a:ext cx="29095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FABRICANTES E IMPORTA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37"/>
            <p:cNvSpPr/>
            <p:nvPr/>
          </p:nvSpPr>
          <p:spPr>
            <a:xfrm>
              <a:off x="228600" y="609480"/>
              <a:ext cx="8761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228600" y="120456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228600" y="26434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228600" y="3945960"/>
              <a:ext cx="8761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228600" y="51652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>
              <a:off x="228600" y="6857640"/>
              <a:ext cx="876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228600" y="609480"/>
              <a:ext cx="180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315180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>
              <a:off x="606672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8989920" y="609480"/>
              <a:ext cx="144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DIMENTOS ESPECIAIS OU DIFERENCIA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87360"/>
            <a:ext cx="77709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metodologia a ser empregada no manuseio dos resíduos sólidos especiais ou diferenciados, que por sua classificação e especificidades necessitem de procedimentos peculiares,  será objeto de regulação no Plano de Gerenciamento Integrado de Resíduos Sólidos  do Ente Público intere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70" name="AutoShape 5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72" name="AutoShape 7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Group 8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74" name="AutoShape 9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Group 10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76" name="AutoShape 11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2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78" name="AutoShape 13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14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80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AutoShape 16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82" name="Freeform 17"/>
          <p:cNvSpPr/>
          <p:nvPr/>
        </p:nvSpPr>
        <p:spPr>
          <a:xfrm>
            <a:off x="587520" y="2728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0360" y="6732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NSTRUMENTOS ECONÔMICOS E FINANCEIR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de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0 dias para propor alternativas de fomentos e incentivos creditícios, fiscais e financeiros para indústrias ou institui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i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uturar linhas de financiamento para atender iniciativas ambientai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stituições oficiai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ilitar as operações de crédito e financiamento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7068960" y="6461280"/>
            <a:ext cx="2059200" cy="380880"/>
            <a:chOff x="7068960" y="6461280"/>
            <a:chExt cx="2059200" cy="380880"/>
          </a:xfrm>
        </p:grpSpPr>
        <p:sp>
          <p:nvSpPr>
            <p:cNvPr id="586" name="AutoShape 5"/>
            <p:cNvSpPr/>
            <p:nvPr/>
          </p:nvSpPr>
          <p:spPr>
            <a:xfrm>
              <a:off x="7068960" y="6461280"/>
              <a:ext cx="2059200" cy="3808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7070400" y="6461280"/>
              <a:ext cx="180720" cy="368280"/>
            </a:xfrm>
            <a:custGeom>
              <a:avLst/>
              <a:gdLst>
                <a:gd name="textAreaLeft" fmla="*/ 360 w 180720"/>
                <a:gd name="textAreaRight" fmla="*/ 180360 w 180720"/>
                <a:gd name="textAreaTop" fmla="*/ 360 h 368280"/>
                <a:gd name="textAreaBottom" fmla="*/ 367920 h 368280"/>
              </a:gdLst>
              <a:ahLst/>
              <a:rect l="textAreaLeft" t="textAreaTop" r="textAreaRight" b="textAreaBottom"/>
              <a:pathLst>
                <a:path w="21600" h="43973">
                  <a:moveTo>
                    <a:pt x="189" y="0"/>
                  </a:moveTo>
                  <a:arcTo wR="189" hR="189" stAng="16200000" swAng="-5400000"/>
                  <a:lnTo>
                    <a:pt x="0" y="43784"/>
                  </a:lnTo>
                  <a:arcTo wR="189" hR="189" stAng="10800000" swAng="-5400000"/>
                  <a:lnTo>
                    <a:pt x="21411" y="43973"/>
                  </a:lnTo>
                  <a:arcTo wR="189" hR="189" stAng="5400000" swAng="-5400000"/>
                  <a:lnTo>
                    <a:pt x="21600" y="189"/>
                  </a:lnTo>
                  <a:arcTo wR="189" hR="18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89" name="AutoShape 8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91" name="AutoShape 10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93" name="AutoShape 12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13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95" name="AutoShape 14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15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97" name="AutoShape 16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8" name="Group 17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99" name="AutoShape 18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19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01" name="Freeform 20"/>
          <p:cNvSpPr/>
          <p:nvPr/>
        </p:nvSpPr>
        <p:spPr>
          <a:xfrm>
            <a:off x="246240" y="614520"/>
            <a:ext cx="442800" cy="60948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provação do PG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ição prévia para o recebimento de incentivo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líticas Estaduais de 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or condicionante para repasse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ioridade na concessão de benefícios financeiros e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ituições públicas e privadas que promovam ações complementares e consonantes com o Projeto de 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66680" y="457200"/>
            <a:ext cx="7102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FATORES CONDICION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70000" y="3808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RENCIAMENTO INTEGRADO 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compreende as atividades referentes à tomada de decisões estratégicas quanto aos aspectos da prestação, fiscalização, e do controle dos serviços públicos de manejo integrado dos resíduos sólidos nas suas diferentes etapas: segregação, acondicionamento, coleta, transporte, armazenamento, transferência, triagem, tratamento, reciclagem, comercialização, e destinação final dos resíduos sólidos urb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PENIDO (2000)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diz que o gerenciamento Integrado de RSU é, em síntese, o envolvimento de diferentes órgãos da administração pública e da sociedade civil com o propósito de realizar a limpeza urbana, a coleta, o tratamento e a disposição final do lixo. Elevando assim a qualidade de vida da população e promovendo o asseio da cidade, levando em consideração as características das fontes de produção, o volume e os tipos de resídu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0000" y="38088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DELOS DE GESTÃO NA AT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) Modelo de Gestão Convencion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acontece na maior parte das cidades brasileiras. Qualquer município que tenha incorporado aos seus serviços a prestação dos serviços de limpeza urbana, desenvolve um modelo de gestão próprio, ainda que de forma rudimentar, pois em seu modelo de desenvolvimento municipal ele desenvolve ações referenciais político-estratégicas, ações institucionais e legais, ações financeiras e ambientais. Não ocorre a participação da popu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) Modelo de Gestão Particip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em que o modelo de gestão passa pela discussão com os seus munícipes. Deve ser desenvolvido com ênfase na correlação da limpeza urbana com os demais sistemas de saneamento (abastecimento de água, a drenagem urbana, coleta e tratamento de águas residuárias e controle de vetores). Envolve a definição ações referenciais político-estratégicas, institucionais e legais, financeiras e ambientais, com a participação de todos os atores o sistema de limpeza, quer sejam formais (prefeituras, empresas, etc.), como os informais (catadores, carroceiros, carrinheiros, deposeiros, etc...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1197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03280" y="69228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57400" y="1844640"/>
            <a:ext cx="2665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i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cond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76360" y="3141720"/>
            <a:ext cx="201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544500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tin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4480" y="3975120"/>
            <a:ext cx="175860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erê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373560" y="3933720"/>
            <a:ext cx="194472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48436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48436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48436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0000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80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90000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349200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19564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907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692360" y="6237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TCHOBANOGLOUS,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356000" y="76500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ficação das interrelações  entre os elementos de um sistema de gerenciamento de Resíduos Sól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835280" y="3487680"/>
            <a:ext cx="963360" cy="66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síduos Sólidos Urba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073320" y="483408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348000" y="25192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omiciliar e Comer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348000" y="319896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ntulh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48000" y="386568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d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348000" y="4637160"/>
            <a:ext cx="1079640" cy="44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Correl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073320" y="406224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3073320" y="338292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73320" y="271620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3058920" y="2716200"/>
            <a:ext cx="14040" cy="280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798640" y="377496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476360" y="206064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48000" y="2060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348000" y="53164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de Saú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73320" y="551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44920" y="2727360"/>
            <a:ext cx="182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44920" y="407340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27440" y="2727360"/>
            <a:ext cx="15840" cy="214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627440" y="3692520"/>
            <a:ext cx="1646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273720" y="3510000"/>
            <a:ext cx="1463760" cy="4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Área de 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444920" y="484488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09960" y="531648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cin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444920" y="5511960"/>
            <a:ext cx="3650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56240" y="532764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scóri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999040" y="5511960"/>
            <a:ext cx="457200" cy="1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7005600" y="3994200"/>
            <a:ext cx="1800" cy="12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02120" y="2071800"/>
            <a:ext cx="1398600" cy="27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88040" y="20718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826920" y="549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 Proposto para o Gerenciamento das Atividades do Sistema Integrado de Resíduos Sólidos Urbanos da Cidade de Parnamirim/RN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Lider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732040" y="2881440"/>
            <a:ext cx="36781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Gestão Integrada de Resíduos Sól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98800" y="533520"/>
            <a:ext cx="3144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5334120"/>
            <a:ext cx="3200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Regulamento de Lim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Urban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6160" y="4079880"/>
            <a:ext cx="2438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9880" y="4876920"/>
            <a:ext cx="251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4920" y="1295280"/>
            <a:ext cx="3581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, trabalho informal,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86400" y="1219320"/>
            <a:ext cx="28195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18800" y="251460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2280" y="4267080"/>
            <a:ext cx="214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1880" y="3022560"/>
            <a:ext cx="124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0280" y="3429000"/>
            <a:ext cx="1905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914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72000" y="39625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1676520" y="326376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3200400" y="39625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 flipH="1" flipV="1">
            <a:off x="6019920" y="3962160"/>
            <a:ext cx="76176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400800" y="2666880"/>
            <a:ext cx="914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6400440" y="35942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429000" y="2286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5943600" y="22096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6400440" y="39625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2590920" y="3962160"/>
            <a:ext cx="15228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534000" y="5105520"/>
            <a:ext cx="2210040" cy="100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0:29:29Z</dcterms:created>
  <dc:creator>Sérgio</dc:creator>
  <dc:description/>
  <dc:language>en-US</dc:language>
  <cp:lastModifiedBy>ROJAS</cp:lastModifiedBy>
  <dcterms:modified xsi:type="dcterms:W3CDTF">2014-05-08T01:30:40Z</dcterms:modified>
  <cp:revision>45</cp:revision>
  <dc:subject/>
  <dc:title>Apresentação do PowerPoint</dc:title>
</cp:coreProperties>
</file>